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705-8BE5-42E0-BD52-A55332E4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382-CCD3-48AC-9DB6-73157F53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27C-84EA-47CB-B5D0-0F9A1DBD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862-C04D-4ED7-9CD7-109D46FC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759C-C733-440B-A1E1-2E536444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6AA5-D51E-423E-9D8C-1F3B3396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4080-C231-44B2-971B-B8B16855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EDE3-84F1-4465-84B7-A3811CB6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31A4-DFA3-4032-9B3E-547B8757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E7EA-8B90-4527-A342-45838FAF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D4D4-52C4-414D-849B-391230DC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0BC-6B99-41F7-9995-9786910B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54F5-A4A8-4B4A-9EE0-62819FF9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3D20-A240-4E1D-A3E7-A0FB484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7C2C-9907-4B73-AAF9-B8E7AA39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BE51-A1B1-4DC7-8157-69FEB7F0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0BBA-8BC5-4ACC-9E07-A6451635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A20-90F1-46A4-8BFA-45ABD1D8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F6C-44DF-4939-8711-960571CA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9AD-4CDD-4FF2-894E-D8172D9B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175-20BE-46F1-8A08-858F98FE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593-663B-4C29-9AAF-01FBE54B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B94-E9DB-4D44-A315-04C8FDD2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8F8-231E-4C69-99B7-468599E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3E1C-A6D9-43EA-817E-9BFE36533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5AEE-D4EC-42C5-9884-8EAEE2B65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kissfaq.com/albumcovers/cover_bolton_large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b7"/>
                </a:solidFill>
                <a:latin typeface="Antique Olive"/>
              </a:rPr>
              <a:t>Fallacy: A False Idea</a:t>
            </a:r>
            <a:endParaRPr b="1" lang="en-US" sz="5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st Appeals can be FALLAC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likely to be fallacio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ing to pity:  “I know you’re a good        man, and I have a dog who’s very, very ill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ing to prejud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ing to tradition: The 8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 of the Academy Award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st like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 to Reason/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ruis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hich is _____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781000">
            <a:off x="7362720" y="1058760"/>
            <a:ext cx="12430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ing the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you support the health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e plan of a man with that hai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 hominem – “to the ma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ing false cau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young people are turning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ke theft because there are fe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fewer Burger Kings every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lt by assoc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 Bolton’s a thug and w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 how you feel about Michael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lton – you must be danger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85580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1676520" cy="181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3962520"/>
            <a:ext cx="2263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GGING the ques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lar rea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urity level for America                                      has gone up, so we must be                                                               in greater dang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quivocating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vague words like “freedom” or “justice” in whatever way you feel like to prove a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doing this for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igh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Terrified Faces"/>
          <p:cNvPicPr/>
          <p:nvPr/>
        </p:nvPicPr>
        <p:blipFill>
          <a:blip r:embed="rId1"/>
          <a:stretch/>
        </p:blipFill>
        <p:spPr>
          <a:xfrm>
            <a:off x="228600" y="93600"/>
            <a:ext cx="4267080" cy="277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posing a straw m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using the issue by addressing only an extreme minority within your op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s think everyone else is going to </a:t>
            </a: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he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Her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confuse the issue by bringing up something that has nothing to do with the arg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e, you like Clinton, but you also like menu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152280"/>
            <a:ext cx="3197160" cy="2249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9369200">
            <a:off x="0" y="4724280"/>
            <a:ext cx="22924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4582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se Dilem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don’t get an A it’s because Schwab hates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ice: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ither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get an A,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hate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lippery Sl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stepping stone theo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ep always leads to a terrible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let 1 country have nuclear weapons, then they’l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ave nuclear weapons and everyone will die. Is that what you w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213372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809400">
            <a:off x="7543800" y="151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7:54:20Z</dcterms:created>
  <dc:creator>\]</dc:creator>
  <dc:description/>
  <dc:language>en-US</dc:language>
  <cp:lastModifiedBy> </cp:lastModifiedBy>
  <dcterms:modified xsi:type="dcterms:W3CDTF">2009-03-18T17:50:51Z</dcterms:modified>
  <cp:revision>10</cp:revision>
  <dc:subject/>
  <dc:title>Fallacy: A False Id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